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C61B-C493-4380-88D9-91E45197239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B514-4AA8-44FF-8A81-AB195B170A0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D184-2BEA-4D5C-8717-CED630244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C904-A575-436F-97F8-4EE3EBCB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93A2-9896-4665-B8AA-B22317A7F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29C9-D126-4B09-9F78-95B7C3301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BAC1-0884-4EDA-91AC-4C4156F2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F564-6D75-4800-8560-1155B85F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C0B3-58C0-487D-881F-342D825D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628B-D869-44E8-B089-DACE139C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9B46-06DB-448D-8B08-FA43A97E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1A67-3A21-41AB-9D91-D2DD0FE7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8C86-6B2F-46A8-9BAA-44E2D4C0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3BD3-F5AC-497C-8841-EE4C4E02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ento projekt je financován z prostředků ESF prostřednictvím Operačního programu Lidské zdroje a zaměstnanost a státního rozpočtu Č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539B-75E2-4246-8474-8134477BDF0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Barevné logo pro záhlaví ESF"/>
          <p:cNvPicPr/>
          <p:nvPr/>
        </p:nvPicPr>
        <p:blipFill>
          <a:blip r:embed="rId1"/>
          <a:stretch/>
        </p:blipFill>
        <p:spPr>
          <a:xfrm>
            <a:off x="900000" y="260280"/>
            <a:ext cx="7382160" cy="819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30088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známky: 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   obrázek s logy je třeba umístit do záhlaví každého slidu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  do prezentace není možno umístit loga jiných subjek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1"/>
          <p:cNvSpPr/>
          <p:nvPr/>
        </p:nvSpPr>
        <p:spPr>
          <a:xfrm>
            <a:off x="468360" y="6245280"/>
            <a:ext cx="8207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Tento projekt je financován z prostředků ESF prostřednictvím Operačního programu Lidské zdroje </a:t>
            </a:r>
            <a:br>
              <a:rPr sz="1100"/>
            </a:b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a zaměstnanost a státního rozpočtu Č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2:09:00Z</dcterms:created>
  <dc:creator>pekarj</dc:creator>
  <dc:description/>
  <dc:language>en-US</dc:language>
  <cp:lastModifiedBy>MPSV123</cp:lastModifiedBy>
  <dcterms:modified xsi:type="dcterms:W3CDTF">2013-11-21T11:24:03Z</dcterms:modified>
  <cp:revision>3</cp:revision>
  <dc:subject/>
  <dc:title>Poznámka: obrázek s logy je třeba umístit do záhlaví každého slidu</dc:title>
</cp:coreProperties>
</file>